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12E-064B-43FE-8ACE-41B44815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149-956D-4E4F-A55A-394ED3A0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DCBEB-2263-44F2-9C3B-FEB26F9C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7D8C3-8E1F-4C1F-9A22-AC033D5C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B3748-2621-498F-8858-FE7DD896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7133D-EC17-407D-ACC6-09C514BB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F8B16-EEB2-4CE5-9D5F-F8F113CF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F63E6-68DD-4AC3-9453-F3821618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817CB-8701-41FE-868A-2A000192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537C4-2C0C-4836-8E3A-3933A31F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C4F9E-0855-4414-8044-120D6985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922E3-E5F2-4B3E-8644-79B2A5AA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A49-FCBD-4C3D-98E9-2F0E0F23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7C488-7B08-488F-80FA-B857DBA0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C19EC-B0D7-4141-9CFF-E3183EC8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8FCB12-8FF6-41B5-B691-08C9C338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CC4C6-CE41-4AAA-A23E-EFF32EF8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0628B-1641-4D57-8660-1707C064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97429-F638-4380-9612-93CE2637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E0670-C447-4223-A685-5BFC081D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AEFDB-551A-4AEE-BE67-7B86CCC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F5A5C-D327-4ADD-AF00-4CA992C5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B562B-24FE-45B0-B7F0-4AE622A4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66E-6875-4342-A3F0-13DA4465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EF2DF-8E9D-4C0F-B74C-A16B1BE5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E841-D3E3-43C5-966A-79225C16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72DA-4519-4313-B626-E65B9F94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9DE1-74DB-4089-8823-1B7CED29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FAA2-E8C2-4461-B229-ABC09043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B173-A2B9-4BFB-9DBB-742AC60B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78B2-7160-4891-9AB2-F31814B1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D53B-F524-4D2E-96B1-EEFAABBB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F1D-D6D1-4C42-A9DF-C1C65BD5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F2A6-660E-4478-9853-0B789120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DAED-744F-4833-8504-DAB22847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4ED5-9DEB-45DA-8B27-58371DD6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A31F-58D8-49E0-907C-76C174E8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D8AC-A814-4884-A439-0E08339D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643B-8F34-4DE5-8548-688E6895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B26B-1A2D-406C-BF79-BE21BF68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E9F9-BA9A-4480-BD06-38935A91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1D4A5-92B3-4EAF-B980-6363D3F8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877D5-A061-4C4B-B340-5D934FF0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A8A-0548-4E1A-AB47-F6D38E8F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3DF8-4CBB-4E53-B13E-A3CEB04D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1E2E-3FE9-49D7-B641-77D3B29C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F6B9-CD1D-475C-B607-39641DD8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FC695-23BA-4E54-BAF0-27B920F8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46626-4088-4286-9B0D-16CFCA71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D2D50-E10F-449C-80AD-AB32B35B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BE209-A5DD-4379-B673-41AD27AC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CDE5D-6FC4-46BE-B305-3B741210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74FDB-140F-4421-AADB-FA47372B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AADE2-28AC-4674-8F06-FA64FF2D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4BA-BC04-414C-B60B-509B49CD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EF9BC-93A4-4A03-A9EA-ECCB2045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83970-DD7C-43AF-BE79-2585A729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7B75-3CE0-4B4B-99FC-84F384A5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B005-14A9-460E-9D2C-561EB631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154FC-34DA-423E-8922-BBBFF6AA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B56EB-17B6-4DEE-B831-BAB3E115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66E2-B0FA-4484-BA67-86F24281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526F2-96FA-442E-A2CA-827213CA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BF344-B816-4EF9-959B-EED9ED35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0F650-F7D0-4D27-AAAA-538E60C1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D40-5DF6-457F-B72B-175F7E01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CEE0F-3821-4C23-9EB2-70B973C0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BC2E9-F2BE-4039-BA64-CF93E315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6B546-A7D9-4F28-9C22-9211558C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E110C-8A2D-4D78-88A1-DEC17950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0C08F-3E53-40A8-812F-33EBAEF8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0AFCB-F79B-402B-925C-93021B86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D414-9F35-4627-ABD4-6614CE71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B3095-1F4B-462C-A6DC-7E297E3B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B856E-BB2F-47CD-8C63-7BEB4AFF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EA872-D239-4E75-8F12-6F4B014F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F29-F4B5-455F-BF9B-B4EBBEE1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23430-ABD9-4745-B2E2-6F9A3DED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71A29-D10D-4510-8DA0-D9105B0439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35E5EF-234D-404B-8B2E-5D9AE16711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93262-B04A-457D-8F7C-FB35DEDAF94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4210A-D67D-408D-87F9-5C2FCC00EB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D6192-C459-48DC-96CA-DBFE3B3E10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024DD-6231-4B9F-83BA-7DA30FDA918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2A34A-FD23-43A9-861C-FB42655D31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B3E46-5387-4C43-9A4D-B79301EA349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87166-DFD5-4C69-9B26-094D68DB4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33A-EADD-4962-B122-0677605E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82F4E-0E0D-4EB1-B5C1-BF92658D11B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ECB17-1847-4469-BDE9-56C9D26FAB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DA6B4-DF5E-4CEB-8C56-E7608A5FC8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C787AD-3725-48F9-ADE2-4F1594B829B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543E31-AF00-48E5-BFA2-45BA3AC3F9B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B3CD46-C1EF-484E-8C2A-7F34DEF07C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368360-535D-4C46-B41B-EF1D446A726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1F897B-519A-4C0C-902A-BA51CC00157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A06267-7818-42C0-B16B-967CA370A01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DBC8BA-0FE9-46E6-A136-DB2DE6A78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108-B9F0-4656-9719-D127C2A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628A42-3D9B-4D8F-8B41-1BDBCC21F8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4EC504-8ECF-42AA-B2A1-5E692095772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9EEE50-FA9E-40F0-8BCB-5FC80BFD3CC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6B3A47-4898-4804-AF98-F86BB2B2F98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6FEE77-BF8C-41EB-BE5F-3B2EB5E030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CE48D4-1653-4946-8FD1-54CB5084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45FE70-508D-4CFE-B420-6F6EC596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112726-7140-4AAC-B079-39B4EC82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DAE283-BE75-402E-9250-5CDB1D0A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1406B1-5233-47DA-9C77-B8A4F54B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A74-8801-43A3-A2CB-B6E7C80A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756433-6FEB-4EA7-BC59-AC2690DA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128993-EFCD-43AB-ADB5-D1313291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16941F-74C3-4CF4-9164-E50FC68C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6B7D8A-643A-4767-A965-4830FB76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DFFCB4-0EA2-4DFA-8500-B33C9DEC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A9B2FD-754C-4CB3-8C11-BEBF0747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3C4AC8-384F-4AAF-8527-D5C44A1B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44E55-D822-4DB0-B80C-523E6B9A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6BA31-828D-4DE3-8D13-304A9C05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8D254-EE1A-4832-B145-2175E2DD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DFEB1C1-E900-41FF-9355-61F729B080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070615F-578B-42A9-9031-10FBEA49C5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3311F97-FDB6-4188-8BA2-7593AB2AB6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EF4D7C4-A435-43EC-93C7-94836CAD28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602E4E1-2EB5-4719-A85E-8DC95BDFC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C90B4EC-08CE-4C6E-96F2-9028F9E1B6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E0B4E12-4F61-4281-A762-275EF19EA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7DC1C38-8D81-4D5B-AC74-7F4D4937A2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933c"/>
                </a:solidFill>
                <a:latin typeface="Kalinga"/>
                <a:ea typeface="Kalinga"/>
              </a:rPr>
              <a:t>A Firm’s Production Decisions and Costs in the Short Run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F671057-F2EA-4E8C-BE61-E21CEF7CDD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1119240" y="3487680"/>
            <a:ext cx="688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revenue: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10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explicit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6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plicit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ages ($1500 X 12)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8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nterest (8% X 200 000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99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otal economic profi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B1F6937-4CC1-4311-8D3C-B445EBBB8A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83920" y="1935000"/>
            <a:ext cx="81025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 Run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 period of time in which at least one input in the production process is fix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utput of any productive proces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E8D1131-4687-4000-A3AC-150BFF770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83920" y="1541160"/>
            <a:ext cx="8102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produc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a result of adding one mor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t of in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Produc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 (or total output)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ed by the quantity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puts used to produce that tota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6262560" y="24033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6453360" y="2381400"/>
            <a:ext cx="1601640" cy="755640"/>
          </a:xfrm>
          <a:prstGeom prst="rect">
            <a:avLst/>
          </a:prstGeom>
          <a:ln w="0">
            <a:noFill/>
          </a:ln>
        </p:spPr>
      </p:pic>
      <p:sp>
        <p:nvSpPr>
          <p:cNvPr id="490" name="Rounded Rectangle 11"/>
          <p:cNvSpPr/>
          <p:nvPr/>
        </p:nvSpPr>
        <p:spPr>
          <a:xfrm>
            <a:off x="6265800" y="48099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6570720" y="4836960"/>
            <a:ext cx="1328760" cy="73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0AEEB97-1727-451A-A968-B79FA03127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and Average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51040" y="2181240"/>
          <a:ext cx="7410240" cy="3962520"/>
        </p:xfrm>
        <a:graphic>
          <a:graphicData uri="http://schemas.openxmlformats.org/drawingml/2006/table">
            <a:tbl>
              <a:tblPr/>
              <a:tblGrid>
                <a:gridCol w="1506240"/>
                <a:gridCol w="1870200"/>
                <a:gridCol w="1986120"/>
                <a:gridCol w="204768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 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Return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more of a variable input is added to a fixed input in the production process, the resulting increase in output will, at some point, begin to diminish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vision of Labour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ing the production process into a series of specialized tasks, each done by a different work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F692052-57BE-45E1-8365-9AACC8F3AE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Division of Labou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44480" y="1785960"/>
            <a:ext cx="79423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ility to fit the best person to the right job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d dexterity achieved when one worker focuses on a single opera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from not having to change to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gained by not moving from one operation to another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specialization can be developed around specific, discrete operation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25711A7-2A26-4D08-9B68-E187B997D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6A715EE-7F42-44DD-B04D-FC4FE543C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2" descr="ftp://ftp.eppg.com/Sayre%20Micro%20images/Chapter%206/SAYRE-MICRO-6-F-6-1.jpg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2628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1"/>
          <p:cNvSpPr/>
          <p:nvPr/>
        </p:nvSpPr>
        <p:spPr>
          <a:xfrm>
            <a:off x="264960" y="5560920"/>
            <a:ext cx="860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rage product will rise if marginal product exceeds it and will fall if marginal product is less tha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27C9AB0-8F26-40E1-87F3-04FDE85CE2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E1630B8-4544-44D2-B32C-59EC905ABA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92E095DC-A95D-427F-8A97-DEB54BA29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83920" y="2115720"/>
            <a:ext cx="81025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relates the number of units produced to the amount of labour us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elate the number of units produced to dollar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depend on the level of production, i.e. how many workers and the level of total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how and why economists measure costs differently from accountants and distinguish between the accountants’ and economists’ views of profi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crucial relationship between productivity and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0223EB8-252D-4002-B327-ABA2E13BE5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f all costs tha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variabl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as a result of producing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more unit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1296E0E-3532-4B3F-A495-BC8A343765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ounded Rectangle 7"/>
          <p:cNvSpPr/>
          <p:nvPr/>
        </p:nvSpPr>
        <p:spPr>
          <a:xfrm>
            <a:off x="5742000" y="4532400"/>
            <a:ext cx="279540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857920" y="4667400"/>
            <a:ext cx="2573280" cy="80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306520"/>
            <a:ext cx="82296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variable cost divi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total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173FADF-1B4E-4354-88AA-5983F8B8F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ounded Rectangle 7"/>
          <p:cNvSpPr/>
          <p:nvPr/>
        </p:nvSpPr>
        <p:spPr>
          <a:xfrm>
            <a:off x="5465880" y="2906640"/>
            <a:ext cx="2795400" cy="106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5518080" y="3019320"/>
            <a:ext cx="2648160" cy="8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st Data for a Fir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0FDCD5B-CB6A-4427-B979-CC1B98D21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638280" y="1488960"/>
          <a:ext cx="7899120" cy="4392720"/>
        </p:xfrm>
        <a:graphic>
          <a:graphicData uri="http://schemas.openxmlformats.org/drawingml/2006/table">
            <a:tbl>
              <a:tblPr/>
              <a:tblGrid>
                <a:gridCol w="1150920"/>
                <a:gridCol w="1201680"/>
                <a:gridCol w="1111320"/>
                <a:gridCol w="1127160"/>
                <a:gridCol w="1152360"/>
                <a:gridCol w="1192320"/>
                <a:gridCol w="963360"/>
              </a:tblGrid>
              <a:tr h="67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6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130D04C-3F1B-4689-8EFC-B4F3D9C341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2" descr="ftp://ftp.eppg.com/Sayre%20Micro%20images/Chapter%206/SAYRE-MICRO-6-F-6-2.jpg"/>
          <p:cNvPicPr/>
          <p:nvPr/>
        </p:nvPicPr>
        <p:blipFill>
          <a:blip r:embed="rId1"/>
          <a:stretch/>
        </p:blipFill>
        <p:spPr>
          <a:xfrm>
            <a:off x="0" y="0"/>
            <a:ext cx="8793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Box 4"/>
          <p:cNvSpPr/>
          <p:nvPr/>
        </p:nvSpPr>
        <p:spPr>
          <a:xfrm>
            <a:off x="5391000" y="3870360"/>
            <a:ext cx="35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 costs of production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eflection of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728DE10-A788-4978-B5A2-DAFA6D8298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BDBEF24-50A0-4EA0-831C-009B993BB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7165E63-CF95-4CEB-B359-C664CC68C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wo unit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of labour are employed (output equals 22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323AE6D-2F84-44A3-9D2F-0803E09E34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(400 minus 3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Fixed Cost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that do no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Fixed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fixed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08F03D9-54D3-4CD6-9F0C-67E0A126A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ounded Rectangle 7"/>
          <p:cNvSpPr/>
          <p:nvPr/>
        </p:nvSpPr>
        <p:spPr>
          <a:xfrm>
            <a:off x="5294160" y="3936960"/>
            <a:ext cx="291492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5443560" y="4062240"/>
            <a:ext cx="2616120" cy="87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both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 cost and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ed cos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Tot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317C181-A239-45E5-AB14-9D57270E6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ounded Rectangle 7"/>
          <p:cNvSpPr/>
          <p:nvPr/>
        </p:nvSpPr>
        <p:spPr>
          <a:xfrm>
            <a:off x="5241960" y="2838600"/>
            <a:ext cx="2913120" cy="83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V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ounded Rectangle 10"/>
          <p:cNvSpPr/>
          <p:nvPr/>
        </p:nvSpPr>
        <p:spPr>
          <a:xfrm>
            <a:off x="5245200" y="4578480"/>
            <a:ext cx="29131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294160" y="4657680"/>
            <a:ext cx="2810160" cy="9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important difference between fixed costs and variable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List and graph the seven specific cost definitions used by economi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Explain the meaning of increasing productivity and cutting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BC5E08B-E1E8-4A83-B9DE-12D386BF9C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87BFD9B-D237-4909-8C07-97B97976BF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ftp://ftp.eppg.com/Sayre%20Micro%20images/Chapter%206/SAYRE-MICRO-6-p194.jpg"/>
          <p:cNvPicPr/>
          <p:nvPr/>
        </p:nvPicPr>
        <p:blipFill>
          <a:blip r:embed="rId1"/>
          <a:stretch/>
        </p:blipFill>
        <p:spPr>
          <a:xfrm>
            <a:off x="0" y="549360"/>
            <a:ext cx="9099720" cy="56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A7816A1-AD57-4915-922D-69C4A5053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"/>
          <p:cNvSpPr/>
          <p:nvPr/>
        </p:nvSpPr>
        <p:spPr>
          <a:xfrm>
            <a:off x="414360" y="4741920"/>
            <a:ext cx="8602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MC and AVC curves reflect the division of labour as they decline and the law of diminishing returns as they 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s initially below AVC and ATC but then rises above each of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ntersects AVC and ATC at their minimum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C continuously dec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2" descr="ftp://ftp.eppg.com/Sayre%20Micro%20images/Chapter%206/SAYRE-MICRO-6-F-6-3.jpg"/>
          <p:cNvPicPr/>
          <p:nvPr/>
        </p:nvPicPr>
        <p:blipFill>
          <a:blip r:embed="rId1"/>
          <a:stretch/>
        </p:blipFill>
        <p:spPr>
          <a:xfrm>
            <a:off x="0" y="425520"/>
            <a:ext cx="899460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D9FA0E4-AB35-47C7-984E-51D1DFFF50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" descr="ftp://ftp.eppg.com/Sayre%20Micro%20images/Chapter%206/SAYRE-MICRO-6-F-6-4.jpg"/>
          <p:cNvPicPr/>
          <p:nvPr/>
        </p:nvPicPr>
        <p:blipFill>
          <a:blip r:embed="rId1"/>
          <a:stretch/>
        </p:blipFill>
        <p:spPr>
          <a:xfrm>
            <a:off x="0" y="474840"/>
            <a:ext cx="8994600" cy="579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29E0ABB-FD39-484F-B799-FF51DAF058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" descr="ftp://ftp.eppg.com/Sayre%20Micro%20images/Chapter%206/SAYRE-MICRO-6-F-6-5.jpg"/>
          <p:cNvPicPr/>
          <p:nvPr/>
        </p:nvPicPr>
        <p:blipFill>
          <a:blip r:embed="rId1"/>
          <a:stretch/>
        </p:blipFill>
        <p:spPr>
          <a:xfrm>
            <a:off x="0" y="482760"/>
            <a:ext cx="9007560" cy="56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923CD0BC-83A4-4A2B-83B8-8C02D2088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199690D-2889-42CE-83AB-1ED455130F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9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3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utting Cos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42BC5F9-1EA2-489D-B49A-8D75C7AE74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83920" y="160488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tting costs involves a reduction in average costs rather than total cost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firm is assumed to be producing at the lowest possible cost for each output level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sts will decrease if: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price of either fixed or variable inputs decreases 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rginal product of a productive process increase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firm is operating at excess capacity, and then increases output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014D8FE-1314-457C-9D29-B2B65A45A8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2" descr="ftp://ftp.eppg.com/Sayre%20Micro%20images/Chapter%206/SAYRE-MICRO-6-F-6-6.jpg"/>
          <p:cNvPicPr/>
          <p:nvPr/>
        </p:nvPicPr>
        <p:blipFill>
          <a:blip r:embed="rId1"/>
          <a:stretch/>
        </p:blipFill>
        <p:spPr>
          <a:xfrm>
            <a:off x="0" y="817560"/>
            <a:ext cx="9136080" cy="51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95328AA-6780-423F-B70C-9C9AA5318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tinction between implicit and explicit costs and the difference between normal and economic profi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, average product, and marginal produc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he division of labour and the law of diminishing retur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otal, variable, and fixed cos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P and M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3721623-A326-4AA7-9594-DAB553EAF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AP and AV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C curve and AVC, AT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C, AVC, and ATC decrease if input prices fall or if productivity increa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capacity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occurs when ATC is at a minimum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is actually paid out in money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m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does not require an actual expenditure of mone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73F2AED-9AAC-431F-87ED-5DD417762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 and Loss Statement </a:t>
            </a:r>
            <a:br>
              <a:rPr sz="32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9CFCAA9-765F-4DAD-AA81-53AEFAAD4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90480" y="1797120"/>
          <a:ext cx="8028000" cy="4476600"/>
        </p:xfrm>
        <a:graphic>
          <a:graphicData uri="http://schemas.openxmlformats.org/drawingml/2006/table">
            <a:tbl>
              <a:tblPr/>
              <a:tblGrid>
                <a:gridCol w="2679840"/>
                <a:gridCol w="191880"/>
                <a:gridCol w="2872080"/>
                <a:gridCol w="1008000"/>
                <a:gridCol w="1276200"/>
              </a:tblGrid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h sales (excluding sales ta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s and 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ed lab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9036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reciation 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ing Profi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rtunity costs of $96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18252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t into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 put in by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 gridSpan="3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and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 Profit or (Loss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607921C-68E1-4208-8CB8-C449F7D85C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ounded Rectangle 8"/>
          <p:cNvSpPr/>
          <p:nvPr/>
        </p:nvSpPr>
        <p:spPr>
          <a:xfrm>
            <a:off x="797040" y="2127240"/>
            <a:ext cx="7634160" cy="52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861840" y="2149560"/>
            <a:ext cx="75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ing prof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reven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explici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2"/>
          <p:cNvGrpSpPr/>
          <p:nvPr/>
        </p:nvGrpSpPr>
        <p:grpSpPr>
          <a:xfrm>
            <a:off x="822240" y="3490920"/>
            <a:ext cx="7662960" cy="857160"/>
            <a:chOff x="822240" y="3490920"/>
            <a:chExt cx="7662960" cy="857160"/>
          </a:xfrm>
        </p:grpSpPr>
        <p:sp>
          <p:nvSpPr>
            <p:cNvPr id="455" name="Rounded Rectangle 10"/>
            <p:cNvSpPr/>
            <p:nvPr/>
          </p:nvSpPr>
          <p:spPr>
            <a:xfrm>
              <a:off x="822240" y="3490920"/>
              <a:ext cx="7634880" cy="85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882360" y="3498840"/>
              <a:ext cx="760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onomic profi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revenu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cost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including implicit and explicit cos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7BCFAB1-854E-4D0C-A948-128AB18991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2" descr="ftp://ftp.eppg.com/Sayre%20Micro%20images/Chapter%206/SAYRE-MICRO-6-p183.jpg"/>
          <p:cNvPicPr/>
          <p:nvPr/>
        </p:nvPicPr>
        <p:blipFill>
          <a:blip r:embed="rId1"/>
          <a:stretch/>
        </p:blipFill>
        <p:spPr>
          <a:xfrm>
            <a:off x="552600" y="192240"/>
            <a:ext cx="7665840" cy="66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A97FAAB-FE73-4EA9-B73B-E4CC50225F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83920" y="1604520"/>
            <a:ext cx="8102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l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inimum profit that must be earned to keep the entrepreneur in that type of busines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venue over and above all costs, including normal profi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nk Cos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istorical costs of an asset that are unrecover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C4BDD7B-E8F9-489F-9FC8-3792B256A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1:01Z</dcterms:modified>
  <cp:revision>244</cp:revision>
  <dc:subject/>
  <dc:title>Slide 1</dc:title>
</cp:coreProperties>
</file>